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01B-4EE6-4727-8023-0368A2F7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339-42A9-4A95-A55E-74C88497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928A4-D322-43E6-986C-57F0C9D1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BD6BC-D04D-4623-B4CB-59E7B9EA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E3EF0-704A-441D-BED8-3720CF08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95C2F-B736-485C-B31B-13E0398B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3A0B8-5246-403B-9332-94DD4588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CA3BE-319C-4C8A-B54B-B0283DD4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2FAB9-CBF1-4DA7-8C8E-A4695F7D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C6DDD-D7FF-418B-A4D4-70415448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98F41-FC75-4292-9350-FB9EC56B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E6885-3097-4DB1-9DA6-FA1BA922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25F-31B6-4DEB-BB7B-7CF75059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53F2E-6FB2-4427-B919-F2A6F922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62408-073C-45BC-8C31-45B22AE0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A4F45-F734-4E79-A480-EEE0CCE8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EF546-60B6-497C-AC81-D725CFBF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16DF3-1820-4214-BEFA-A3527C28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236BC-5C7B-4144-817E-635F6EE2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92389-6062-4435-9F77-33927396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0225B-C8DE-499E-895D-9B84D546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99E16-CCFF-495C-8DB5-CEA5ACB3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E4FCF-4551-4D31-B99D-692E2A8D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A5E-020D-45FC-A27D-76496AFA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A24BF-A448-440D-9F78-A11994B4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61B35-CD3A-4158-A685-3760FF40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3F2D2-5F50-46B8-BACA-FCE50DDD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55B61-9095-4D10-91C9-C60DC4C9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B26AA-8E6A-47E3-A61A-A095EBA3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6FBAC-E3C1-4BA9-822D-E4826D21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3D541-F74F-4F4E-B0BC-5248121C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20989-5DD1-4F8E-880C-4D36FA0E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A25A8-EDAB-4BA4-956B-881BEAB4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85589-A155-494A-B724-76C068E4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5E46-768F-4074-8D69-2F0152BD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FCBD1-7D67-49F9-A4D6-F147507E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CAEAB-AF49-4C53-B746-AA7E1C67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6F275-A21A-4591-871A-516AE2A8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1E9E3-EA46-4FA6-83F2-CB821ADB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12F68-0096-4242-8E02-6A6D8FEA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E4D76-986E-404A-8416-8ADBF7BF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629AA-AEB7-4550-BFD3-12D92BC6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36204A-4BA7-415B-82E1-047166E3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89E87-990D-48FD-8C95-A01C6141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09882-B423-49F3-828F-6A10819C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3433-E3B2-4C7B-9790-DEB42EE0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DBC5C-A62E-42E1-BB8D-15DE3E40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B1FBB-4E95-4A8A-BBE4-9F9EA65C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5B43F-7668-4E8A-9F5E-31663787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1FEF1C-9E1E-4BD4-A509-F1BDAD0F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EF8E8B-550E-4C29-A17B-57FBB480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4194-9A36-4F25-AE83-1907AEB8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22DD-3E5C-436C-B407-04338CEB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5D39-2F21-4AC7-997C-5ACE39B1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5465-B2C2-4390-958D-7A7630F0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FEF9-3BED-42E6-81F7-592396DD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0E1-10CE-4865-AE5E-F601BAD8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C10D-7078-4F86-B432-9CAAFEDA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9C84-C3D9-4813-8685-05166588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4F48-F210-49E5-82B7-03CF7892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3FCD-1F11-40C9-AB5C-F6B40F31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BA1E-2D27-4AB5-906B-D0D1B680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2B231-F8A7-4C5A-9EFD-E8C3DF55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F177-EDE3-4F25-8E80-B609A744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9A768-D4C1-45DB-9A16-2CA1CB19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566B-8FE8-49DE-93D9-3DCE0572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1244-5E7E-4715-ADE6-85E08354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237-941E-4E00-B056-2A2DE687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0FAF-0E69-4F71-AC6C-B305E65D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3375-9A88-4F83-82E3-501E4400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0286B-695F-4EC4-8F11-EDF76FDE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2DB7-6F45-45A7-868F-633B433B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9D6E-9DE1-49B7-9BA9-5121D7AC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F58E-5B43-4C61-8C8A-5ACFC73A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E19B7-A53A-4887-8071-0E3E6EDF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1273F-40FB-4F2F-B31B-71E9CF87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7517E-0E8D-401E-B2FB-03F5D200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0A8EB-5F48-4BF3-BA45-38F26ACE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560-094A-4AA7-8D09-94496AB2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3948F-12ED-4122-B52F-4C64C5B0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86769-E2E8-4870-A76C-A4BD252B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ECA79-53CA-48F2-B2FC-6AC51BFF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3AB7-5364-46AD-AE85-9EF60356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29402-8D93-4978-9660-FF5D08A3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C5B66-BC91-4B56-AA3B-447D4DE4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C71AF-8933-44E7-8A87-426DFBA6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71CB4-CEB2-4AB2-AF1D-5C603A34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0874E-C714-4627-82D5-FF8F1763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A1D7-B2BC-44C2-999B-9AC09D87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447-C335-4BCF-861D-EF3158CC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72FC3-B384-4591-BB03-93C075BC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C3AEF-FBB2-4AFA-9803-68F4FC35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0ADCE-135D-4087-9CC6-6B719557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CDB68-3505-4E96-8D3F-76AEBBEE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8A89-5883-4073-AD1C-B7A803D7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941A5-8DEF-4BDB-9051-7105E8D0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254FE-121A-4849-A988-C0CDE52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20D0-56CC-4B8A-8D02-EF29BCB0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31CBC-9717-4CBA-99B1-733224F8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2A8C3-DF4A-4384-AAC1-5655F450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808-CE85-4CC1-BD87-B2A7C98C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58132-65B4-4A40-A94E-D258BC7D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AEFC8-820B-48D1-B714-D949102D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C7886-6093-4DB5-8EA7-50E0E03E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F6206-9E32-474D-913F-65697EC9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F431D-D945-4963-A6C3-A2964B16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E8E2F-7F6E-46E6-BA55-D3E8FF62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BF0E6-97B5-4765-8CA8-E783362E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1F84B-A388-4231-922E-ADFD1BA0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6A693-77BC-482D-95B1-258D300B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6AECB-35A0-4797-A3AD-585BE2B2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DD6-B45A-4C26-8393-A7042188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E9B4F-7109-42B4-94A2-B829B475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3C225-B8E6-4DAD-8BC5-C92614E0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78C0E-4402-48DD-AB27-B0BAC50F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9120B-18B8-42D9-8892-A368A9E6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73A67-F41D-47A4-92CC-04554E30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5F818-0D15-466A-BE20-0DD5A0E7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DC0D2-2A97-4D53-A169-AED8FB00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7E9B1-EFD6-4991-BD68-5D553703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F6D58-A067-4F2F-BD0B-2010FC0C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35ED8-CD3E-44D6-98D5-712CA581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FBE-2B9C-428E-9075-7286B76E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7F23D-EA34-4F15-AB9F-93356E5C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9A8AA-B7DB-4515-B68A-96117D6A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172CB-8AC5-4452-9BEC-A9EBEF16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BDD70-357F-4D7F-AE87-2B7A5E3E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4147A-E997-4A76-A3FC-A8F538C3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D5B4C-7B49-4556-8DEA-6147CCE3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5757A-B8F2-463E-B74E-CAF1BF14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EB1C7-A316-44E5-9994-4CF4C026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D7BEC-8419-4C8F-899B-5F3DE417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E6103-7992-48AD-A3AF-0027D2DC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358-89F3-4B76-B18E-245005AF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9D85E-6296-439F-83C2-92B9F0D5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77102-47CF-4E5E-8124-39FC84FA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4044E-B9F7-4E3C-A226-1E3FE252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C729C-EA7C-4C63-90A8-E0BDC1EC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786CF-76DD-4792-B4D1-87593439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F01E7-7512-472A-9813-E56298CA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66E11-0A08-4EB6-AD50-F9C13D36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9DFD5-3A5C-49C4-8514-5F9A68C1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B62F8-C46F-4430-A861-E8F44866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50F67-7C36-47C5-B2A8-A8C5B29F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DBA76-E99F-4EC3-A04A-7366DD10F7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8B6FB-FBD2-4CD7-9C17-CAC9F767C9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E7601-5598-4D73-921B-28010412D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9FBB0-0E3B-4C78-B9C2-924514F707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6D4DF-82A7-47E3-9D81-08E5A9218D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DAA29-ADF3-4915-AF6A-16BA5C8AF5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DA80C-6917-4CDE-BF9F-3B504D6F3B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1F294-BCA4-4307-A221-922BEACD61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7FEEE-A68C-4819-9152-6D2B2A8396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DB9D5-CCFD-418C-9C5A-3218AA1F86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69A25-2DF6-4A6C-BC86-356B460900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4CDB9-7686-4528-8515-14D2993B34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horeline Community Colleg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horeline School Distric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ore-To-Colleg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lleng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IME and Schedul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2" marL="727920" indent="-33588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hool district and community college staff have very different schedules, making it difficult to find common time for training and collabor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etermining how to go about accomplishing our goal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Determining what we needed to do to build capacity for transcript and college placement agreement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Blending two different staff cultures to achieve common understanding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Collecting data in the future to determine effectiveness of placement agreement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New Course Development in English Language Arts – 12</a:t>
            </a:r>
            <a:r>
              <a:rPr b="0" lang="en-US" sz="3000" spc="-1" strike="noStrike" baseline="30000">
                <a:solidFill>
                  <a:srgbClr val="7b9899"/>
                </a:solidFill>
                <a:latin typeface="Georgia"/>
              </a:rPr>
              <a:t>th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 grade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SD and SCC faculty jointly designed a high school senior year college readiness cour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d CCSS and HEC Board Academic Descriptors for Behaviors and Dispositions to develop a common definition of what a college ready student would be able to d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d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SpringBoar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nd Expository Reading and Writing Course from Cal State Univ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signed course that is both skill focused and high inter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lacement Process Plan for 2013-201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elop College Placement Agree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ursewor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BA scor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25000" cy="9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English Language Arts &amp; Math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2012-2013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2171880"/>
            <a:ext cx="8229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CSS Training (Math and ELA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urse Alignment and Comparison (Math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w Course Development (ELA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CSS Trai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glish Language Art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ssion 1: Overview of CCSS and examination of specific strands (Reading, Writing, Speaking, Listening, and Languag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ssion 2: SBA - comparing cognitive rigor of SBA performance tasks with HSPE and with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SpringBoard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embedded assessmen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CSS Trai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th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est instructional practices –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hifts: focus, coherence, rigo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mon langua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andards of Mathematical Practic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ooked at Smarter Balanced Performance Tas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ppropriate scaffold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790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Course Alignment and Comparison (Math)</a:t>
            </a:r>
            <a:br>
              <a:rPr sz="30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d high school and SCC cour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yllabus and course overviews (SCC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rriculum guides (SSD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inal exams for Math 80 and 99 (SCC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extbooks for Algebra I and II and Geometry (SSD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cluded that courses were fairly aligned in content and expect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fessional Learning Plan for 2013-201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erve in each others’ clas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BA – administer a performance task to students and norm our grading toge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CC English 100 &amp; SSD English 12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CC Math 80, Math 99 &amp; SSD Algebra I, Algebra II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tical insigh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nderstanding instructional shifts of the CC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nderstanding of rigor, content, and expectations of both SSD and SCC cour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urpris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ce we decided what to do and scheduled the work, the collaboration was a great succ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aculty expressed an interest in observing each other’s clas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aculty expressed an interest in further collaboration in norming our gra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nalysis of students work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marter Balanced Performance Tas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ank you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CC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Brandon Rogers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Special Assistant to the President for Grants and Contrac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Dutch Henry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Professor of English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osalie Tepper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irector, Math Learning Cent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S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eri Poff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Director of Teaching and Learni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Jen Etter        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nstructional Specialist for Language Art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hereen Henry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Instructional Specialist for Math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4T19:48:36Z</dcterms:created>
  <dc:creator>Shoreline Schools</dc:creator>
  <dc:description/>
  <dc:language>en-US</dc:language>
  <cp:lastModifiedBy>Shoreline Schools</cp:lastModifiedBy>
  <dcterms:modified xsi:type="dcterms:W3CDTF">2013-08-07T21:55:12Z</dcterms:modified>
  <cp:revision>13</cp:revision>
  <dc:subject/>
  <dc:title>Core-To-College</dc:title>
</cp:coreProperties>
</file>